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93C-A5F6-40B0-AB8F-D86E663A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B3A-BCFD-4256-A871-98E3C0AB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3AF-78B9-4A9D-914F-8CAB27AB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E82-27D4-4C95-BA21-DD677E8F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B2D-91E6-4AD7-94B4-161081AC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392-0054-4589-BAC7-260294A6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CAA-F493-431E-84E2-540EBB4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E4D-5D0E-4DF6-9155-8D3D106E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DB5-3DA7-4DF3-9078-54550368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A85-BA84-4FE1-B02D-8C25E6E4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955-D7CA-480D-9549-EA18236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DDB-39F5-4566-BA32-64B3B7C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F1E-AFDC-4306-BBAD-0A5821D008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920" y="1447920"/>
            <a:ext cx="538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mula f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3133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197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311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84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8487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7848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157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396252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67080" y="3809880"/>
            <a:ext cx="3962520" cy="156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2120" y="2438280"/>
            <a:ext cx="3504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1:46Z</dcterms:modified>
  <cp:revision>212</cp:revision>
  <dc:subject/>
  <dc:title>Slide 1</dc:title>
</cp:coreProperties>
</file>